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CAA-1286-4612-9772-A85CE2DD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467-E07E-433C-A913-4EFFB13A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605-187D-4D50-BF41-993967EF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119-1371-4A80-B88A-0ABC33C0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DEA-AC04-418A-81AB-E6728783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36F-F8E9-4042-9AB6-5B852BCA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6380-F400-4DE1-9E9C-975457A5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B1E3-3FDA-4137-B7C5-59344C82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9294-5C0B-4523-A47C-5BA1F0A1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306-BB9A-4054-B5EB-7443EB03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2AF8-E456-43D9-9435-BC2DB611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1270-CD66-4203-B7AF-4D4FFE52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BED0-CB83-49DD-A654-742DCE28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1240-EE01-4D35-BE3D-4D6AAED5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2DB4-2F79-4038-8732-88CA856F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0788-1888-43E5-A58C-51096A95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E22F-D619-47C9-9C22-BB7CDACF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51D6-8458-4296-B785-D1644097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F264-F0C8-4403-92DF-57C9FB2B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67D12-D80E-429C-8C8A-9F79E456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2C7-BC35-4ADC-811C-A72DF5C1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7BC72-4576-4D11-B550-8FA067F7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13B7-9198-4928-8A0A-58E901C1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66F8-BEB5-4F87-8237-F83F3292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00EF0-EE60-4681-86F4-A09E18FB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AFD2-155F-44A5-A471-BE04F621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A91AF-B63A-4304-A00C-BC622861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AEA43-7B77-4F77-95FF-3F8EC45D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710E-174A-4127-AF76-74751413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95EA-2320-4CB4-9C47-BFD3A560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A422-06A6-4528-8719-B28668AF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483-E51E-43C3-A6B1-045BE57E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D2F5-B9A0-43AE-8FC8-051379E6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1131-E4DF-47BD-8DAA-CF2D37AE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A5053-F0A4-4C89-96BC-A62681FC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36D6C-EAF6-4F54-A49A-68FF5EE9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725D1-49BA-46EF-A9CE-875AED8F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D5808-2C5A-4C6B-A45F-1ED732D6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59DC7-124B-4804-B6B7-F8B85573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EA29-982A-4096-838A-FE845ED4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8DA6-F6E7-4189-8B61-BE30A69A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1676F-B8F5-474E-BC3F-F5D8E498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EB5-0AC2-4A53-8A64-5EB06BA2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1E3E-FB46-40DC-B444-63DEE955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7BB19-7A17-41ED-8769-7068D815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2D60-4FB6-4DA1-8D26-D88D7835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6AD-BE77-46F6-AE6F-CEAB315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C62-E815-4FBB-B0C4-B998AF01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F4792FA-35E6-4D19-8DCC-93C4BC585AD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A5CBD95-E4CA-449E-AE8F-29CA9877411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D3D0F3D-D134-491A-B33E-4F67662468E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67DA6B7-8EAB-4F5C-94CB-BBCAC3466E16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8000"/>
          </a:bodyPr>
          <a:p>
            <a:pPr marL="236160" indent="-236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skaż różnice pomiędzy resuscytacją osoby dorosłej i dziecka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przypadku resuscytacji osoby dorosłej rozpoczynamy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d 30 uciśnięć klatki piersiowej, po których wykonujemy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2 oddechy ratunkowe, natomiast w przypadku dziecka rozpoczynamy od 5 wdechów, po których przechodzimy do sekwencji 30 uciśnięć – 2 wdechy.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